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1.jpeg" ContentType="image/jpeg"/>
  <Override PartName="/ppt/media/image9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19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png" ContentType="image/png"/>
  <Override PartName="/ppt/media/image10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4.xml" ContentType="application/vnd.openxmlformats-officedocument.presentationml.comments+xml"/>
  <Override PartName="/ppt/comments/comment2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presProps" Target="presProps.xml"/><Relationship Id="rId40" Type="http://schemas.openxmlformats.org/officeDocument/2006/relationships/commentAuthors" Target="commentAuthors.xml"/>
</Relationships>
</file>

<file path=ppt/comments/comment14.xml><?xml version="1.0" encoding="utf-8"?>
<p:cmLst xmlns:p="http://schemas.openxmlformats.org/presentationml/2006/main">
  <p:cm authorId="0" dt="2016-08-26T23:13:41.725000000" idx="1">
    <p:pos x="4295" y="692"/>
    <p:text/>
  </p:cm>
</p:cmLst>
</file>

<file path=ppt/comments/comment23.xml><?xml version="1.0" encoding="utf-8"?>
<p:cmLst xmlns:p="http://schemas.openxmlformats.org/presentationml/2006/main">
  <p:cm authorId="0" dt="2016-08-26T23:13:48.053000000" idx="2">
    <p:pos x="1521" y="52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0D3-FD75-4548-A6EE-2F4EA915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4A6-FAC8-47A1-A6A4-D42D0604D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2B58F-9EA5-44F2-82A6-93C32EE2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4EF54F-8334-4286-A179-42394FED1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8DB065-7AC9-4FEF-BC8D-875781DA8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68E14-2752-4480-9D14-723B51265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D66BB-9AD4-47FB-B3C1-F884B62D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D2B10-8F59-464B-A425-9E0E0CED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4173F-A482-4877-B18B-87D69EE6A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F71346-D015-483E-B87B-BF7F7D496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D1C5F-DE42-4E1A-98CA-6D903ADAE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2D24C-922B-4CAF-B4E0-4DF11718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47D-B980-4704-B039-E7DD9454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6945E6-44EA-4372-A494-ABBA5571C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EC171-51D9-4B4B-B7CC-D4C305268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39EA7-1E5C-4C25-B886-47D9E4927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D659E-A5C2-4A12-8976-2580669A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CF2DA0-97E8-435A-B115-A45420A8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D40DED-CAEC-4DA6-A877-B9894E86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D10DB-EC18-47F6-A44F-F7ABFC21D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73B9A6-64C3-4674-B816-54B36A89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746F11-448B-4A0A-827F-157F80A7E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2CAB5-F3A8-4F70-87B2-618DD8F6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42F7-A199-41AC-93D1-5FDD6200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672CA-FF1C-4552-9B08-F3C51BEE4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C09D4B-EC2E-44E4-838B-803A80781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6F738-B1FA-4BD8-BE4F-83465DC7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318186-795E-4DBF-ABFF-C97CA3331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2EAA7E-797C-4698-A820-C3350FDEF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E744B6-77FD-4CB4-9D3C-59107F09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B5FBE-D208-4564-B315-076509386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AC09CA-5433-4D33-8FB0-A356D420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B157F-6D17-4667-A5C9-1DA6227F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BDA3C-1017-4DD4-BBED-67F06BE8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CDA56-D48A-4E94-8092-799CF5D46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6B2BC-CEAD-49C5-B992-85DEE795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F404A-4487-44D4-A2C6-237C03AC4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AC76D-BBE8-4C4C-9E9B-22CFD002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376391-661A-4084-9279-E9416274B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8C4728-B2D6-40F3-8D3F-EAB84DC95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D3EF83-F976-47AF-84EA-F1052315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A8EAFA-EB20-44CE-ACEE-1FAA511F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3CCD0D-CFA4-44AA-9B2A-FE0843A4B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C23C0-7E6E-4106-B72B-BB631367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7D5230-BEFC-47B1-BB16-E71BE4E6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699CE-3974-4544-A521-04CA3C1D7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B0756-D896-4BA8-8544-324A4786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B28F7-DD75-4B7B-BD27-B2709537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00FA8-67CC-4231-9C36-4D66AD8D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BA3CC-80F7-42A3-B720-B2CBDE201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54BB0-22A5-4895-942B-6CE2E559B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3BB4-88B8-4C8E-8AEB-686DEAA0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5843-DD5C-4C3D-B4A0-25A8F068D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F0EAA-F6D4-4C18-B0C0-48743F97C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CBCE-167E-417E-A343-7BDF4B7F7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AB313-A989-4800-B2B3-A3560C08D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C732-4627-42B3-B07B-0B6C3BFE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1E37-A4B4-44C2-965F-EBB6B6FBD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E93FF-EFA8-4EF2-8CB5-A902BA26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C100-7F2E-4BE2-861A-788E02D1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0BACD-1D5F-446B-BBBB-56CFCD73A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6083A-82D0-419B-B039-4725FD09E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522816-AD2C-40B2-893A-9C518E2B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7AD3B-B3B6-4557-9B79-7A97CD83A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F8ADD-182F-484A-975D-E4C701E3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48025-9F79-4381-B282-0647CC280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074D6-F905-4D30-8299-19F782F1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413C-D21C-4FA1-A2B5-5B44BF8C1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86AFC-504F-40C1-BE27-A07EDBC05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6EE95-9319-42FF-B011-B1F48FE9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8E3E-86DF-4463-B0AD-27B0A54D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F49CC1-FA90-4410-9A1A-B759DFBF8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77560-121C-4B44-BB2B-AD26EA29E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8304F-7BF5-4EC1-A125-7A339F6B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CBE48-9227-40B2-8F6A-F999A68F7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9EC37-B809-41AF-BF50-828BF905D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C87F7-5423-4614-89D1-9E01D69E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8D6CDC-C0B0-4010-96EC-D6901BC58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9E9E-A78B-4FDF-9F92-76F2B162D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CD32E-6BE5-433C-A29C-B5560ABF6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04AD9-300C-4F99-92BF-CF12FE310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A4729-9780-4DE4-9A27-C7ED7499E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ECA0A-93F2-4D08-823F-01E83FFB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93656B-9EBF-4398-9900-F2572FD02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0D633-FCB2-467E-BB41-F5B690B6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154E9-8A77-483F-B289-9E1825EC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A61F4-F964-44AA-8F38-498458EFC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BBCF9D-D516-4AC8-B084-579426BD2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7CA01-93F2-4824-BA28-2FBCEAD6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31C4-125D-4170-84F6-EFB90385B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D654D-F649-4D48-97A9-86F1B020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36E77B-3072-4C0B-B822-65E3F474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B2F98-1C96-4FC4-AD33-B822F621B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2FCF1-632D-4B14-9088-55053EDA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1D2C2-624E-45D1-9B78-5B17458ED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0AD2C0-6409-4D27-A4FA-C4C97A6B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C6FE9C-A38A-47F5-8753-C784BBFF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F34682-CB85-4B0A-B7F7-7D7803A6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48D5A-3DD5-4D92-AF92-E97971171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A1189-7571-4CC3-9721-D4DE75C69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D08A7-9A13-4CD6-8CCD-FB5F9360C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6EB7D-3553-4491-BDA9-74D0107E2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C98E21-E6B1-4878-8361-BD8060889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BFAEDE-302B-4A46-92F8-F85D511F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6240B1-E231-46AB-86BC-696F378E7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CD6AD-4EAD-40B9-819D-8D3B0731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80FFE-B411-4EAD-83FB-9F7244C06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BB2DB3-A4BE-4E64-9645-BE5BD385A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619C46-F75C-43DE-87EA-6169263A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DC25D6-84E1-4477-95A3-E9A91414A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08C00-6980-4490-B987-AE9986DFA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42DE-F773-438F-A258-82C24D62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4B532-6B0E-4BE4-BFEF-E78805177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EAAF2-C6E6-4589-83E6-BA85726AC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073DF-D77E-4E35-AC50-B94C30C21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36B28-66A4-41C9-8AB6-E399BEA63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E0168-AE78-44E9-8089-118579AC2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B09EA-B4BF-4B44-B5B2-C742814CF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2ABFE5-D5F3-4690-BCB5-DC8E857E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BF44A-4A43-48FA-9161-A2ADA015A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B1C500-0DE4-40C1-AAE1-EFCDE3EBF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BB6D6D-2BD3-422E-BD9B-8B85B61E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5997-10C6-4677-AC0B-0367DD0C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6BDFA-906E-4015-929A-335B22428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59B49-CC62-4AF7-B83B-B3766FD7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B8BEA-A226-4A4E-99D6-0D5170634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201867-3260-4A14-B1CD-F1CC10242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EFBC23-AD66-4C63-9A79-995637D6D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1FA82-24A1-4354-B0DE-C13E999F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D1207C-472A-40F7-8EE0-C4F0ACDF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802771-5EE5-4DAD-9E6E-85276321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B6A77A-A713-47F7-BBDA-65C25D56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DA33E-F28A-4F82-A1BB-9239BC30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B71-A186-4796-AB5B-DD8CDCE0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89E8AD-F9CF-468D-9789-561B668DE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B5557-C459-44A0-84C1-02DDDFBD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DBD6B-C2DB-46DC-ACA3-0C801FD06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3966A3-1158-4DFB-8B35-3826212FA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451F1-D563-4CD5-8257-00796EF3B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509C4-85AE-479A-92FA-8587BE12C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89BBF-8268-48B6-B502-406DCD3D8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845D2E-C331-4EEF-9C6E-7B258587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FCB230-A92D-493E-8317-88BC2AED9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F954D3-AB71-4DB6-BC03-D3F5CEFF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3993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39938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39939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椭圆 39940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椭圆 39941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椭圆 39942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椭圆 39943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AE69-8CF9-404E-91E3-DA7A9779DD0C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3754C-4A1D-4E9A-A80F-5C19BC2905D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E7E3-01C0-4850-8D02-F63D01E8F00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D480C-19CF-4841-80A6-B3D0782E7C7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0961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椭圆 40962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椭圆 40963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椭圆 40964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椭圆 40965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椭圆 40966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椭圆 40967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5" name="图片 40973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7823-DA3B-456C-8D18-76497F81E223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4F5A7-2D96-438B-AA43-0D35DF4F66F4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EB8A5-6906-429B-85C7-D8862D4D610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6F52C-DF28-4524-8F88-DA3467A5F41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A5BF-E942-49D2-A25A-50285991DB1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BB7D-D327-4395-91DA-456F3BB4C70E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8A9D2-0AAA-4111-B6A4-B7AA4F38BAD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0CC1F-A14E-4980-A611-9AE5B335975D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comments" Target="../comments/commen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s://www.baidu.com/s?wd=&#19968;&#26085;&#38590;&#20877;&#26216;&amp;tn=44039180_cpr&amp;fenlei=mv6quAkxTZn0IZRqIHckPjm4nH00T1dWnjDvPWD4nh7BPvRzuHbv0ZwV5Hcvrjm3rH6sPfKWUMw85HfYnjn4nH6sgvPsT6KdThsqpZwYTjCEQLGCpyw9Uz4Bmy-bIi4WUvYETgN-TLwGUv3EnWfsn163n1b" TargetMode="External"/><Relationship Id="rId2" Type="http://schemas.openxmlformats.org/officeDocument/2006/relationships/hyperlink" Target="https://www.baidu.com/s?wd=&#38518;&#28170;&#26126;&amp;tn=44039180_cpr&amp;fenlei=mv6quAkxTZn0IZRqIHckPjm4nH00T1dWnjDvPWD4nh7BPvRzuHbv0ZwV5Hcvrjm3rH6sPfKWUMw85HfYnjn4nH6sgvPsT6KdThsqpZwYTjCEQLGCpyw9Uz4Bmy-bIi4WUvYETgN-TLwGUv3EnWfsn163n1b" TargetMode="Externa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85.xml"/><Relationship Id="rId5" Type="http://schemas.openxmlformats.org/officeDocument/2006/relationships/comments" Target="../comments/comment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08" name="TextBox 1"/>
          <p:cNvSpPr/>
          <p:nvPr/>
        </p:nvSpPr>
        <p:spPr>
          <a:xfrm>
            <a:off x="1476360" y="1341360"/>
            <a:ext cx="59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    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黑体"/>
              </a:rPr>
              <a:t>14   </a:t>
            </a: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小蜗牛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510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1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512" name="Picture 6" descr="01300534138712135391397323205"/>
          <p:cNvPicPr/>
          <p:nvPr/>
        </p:nvPicPr>
        <p:blipFill>
          <a:blip r:embed="rId1"/>
          <a:stretch/>
        </p:blipFill>
        <p:spPr>
          <a:xfrm>
            <a:off x="1187280" y="2205000"/>
            <a:ext cx="7050240" cy="393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9" name=""/>
          <p:cNvGrpSpPr/>
          <p:nvPr/>
        </p:nvGrpSpPr>
        <p:grpSpPr>
          <a:xfrm>
            <a:off x="394920" y="1773000"/>
            <a:ext cx="2073600" cy="6120"/>
            <a:chOff x="394920" y="1773000"/>
            <a:chExt cx="2073600" cy="6120"/>
          </a:xfrm>
        </p:grpSpPr>
        <p:sp>
          <p:nvSpPr>
            <p:cNvPr id="600" name="直线连接符 21"/>
            <p:cNvSpPr/>
            <p:nvPr/>
          </p:nvSpPr>
          <p:spPr>
            <a:xfrm flipV="1">
              <a:off x="395280" y="177300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 rot="10800000">
              <a:off x="394920" y="177300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02" name="Picture 7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5"/>
          <p:cNvSpPr/>
          <p:nvPr/>
        </p:nvSpPr>
        <p:spPr>
          <a:xfrm>
            <a:off x="317520" y="1658880"/>
            <a:ext cx="8820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1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大声朗读课文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2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标注自然段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 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3.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圈画生字词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一）学习第一、二自然段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齐读第一自然段，运用“旁边”一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小红的旁边坐着（           ）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文具店在我们学校的（          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小树发芽了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5" descr="96ec7b22fe420870"/>
          <p:cNvPicPr/>
          <p:nvPr/>
        </p:nvPicPr>
        <p:blipFill>
          <a:blip r:embed="rId1"/>
          <a:stretch/>
        </p:blipFill>
        <p:spPr>
          <a:xfrm>
            <a:off x="1835280" y="1844640"/>
            <a:ext cx="5327640" cy="417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学第二自然段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来了，太阳出来了，冰雪（    ），小树（    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②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春天来了，多好玩啊，蜗牛妈妈对小蜗牛说：（     ）。它会玩（      ），会玩（      ），会玩（      ），还会玩（      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小树长满了叶子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5" descr="7e618e9cbe109bfa"/>
          <p:cNvPicPr/>
          <p:nvPr/>
        </p:nvPicPr>
        <p:blipFill>
          <a:blip r:embed="rId1"/>
          <a:stretch/>
        </p:blipFill>
        <p:spPr>
          <a:xfrm>
            <a:off x="971640" y="2565360"/>
            <a:ext cx="7272360" cy="321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324000" y="907920"/>
            <a:ext cx="851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二）重点学习第三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蜗牛（爬呀，爬呀），它看见了小树（          ）。一天过去了，蜗牛妈妈想，怎么还没回来，小蜗牛（   ）它看见了树叶（     ），一个月过去了，蜗牛妈妈想，怎么还没回来，小蜗牛（    ），它看见了碧绿碧绿的草地上长着（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齐读第三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三）学习第四 五自然段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妈妈知道已经是（   ），让小蜗牛去（    ），小蜗牛（    ），爬了好久才爬回来，对妈妈说（          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采几个蘑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5" descr="ac75323d6b6de243-72c7f71f5d8818aa-1af1ca76a1131b053f4b3700619e5386"/>
          <p:cNvPicPr/>
          <p:nvPr/>
        </p:nvPicPr>
        <p:blipFill>
          <a:blip r:embed="rId1"/>
          <a:stretch/>
        </p:blipFill>
        <p:spPr>
          <a:xfrm>
            <a:off x="971640" y="2276640"/>
            <a:ext cx="712944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四）学习第六 七 八自然段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齐读六 七 八自然段。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发现不同季节树的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分角色朗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3964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地上盖着雪，树叶全掉了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Picture 5" descr="47e864433d57ba15-4e881d80e0dc05a3-aa6010b66056b791a1b94e5409628551"/>
          <p:cNvPicPr/>
          <p:nvPr/>
        </p:nvPicPr>
        <p:blipFill>
          <a:blip r:embed="rId1"/>
          <a:stretch/>
        </p:blipFill>
        <p:spPr>
          <a:xfrm>
            <a:off x="1187280" y="2997360"/>
            <a:ext cx="6769440" cy="317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4" name="TextBox 5"/>
          <p:cNvSpPr/>
          <p:nvPr/>
        </p:nvSpPr>
        <p:spPr>
          <a:xfrm>
            <a:off x="1052640" y="2357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 </a:t>
            </a:r>
            <a:endParaRPr b="0" i="1" lang="en-US" sz="5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515" name="Picture 9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2305080" cy="60948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68360" y="148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 u="sng">
                <a:solidFill>
                  <a:srgbClr val="ff3399"/>
                </a:solidFill>
                <a:uFillTx/>
                <a:latin typeface="Calibri"/>
                <a:ea typeface="幼圆"/>
              </a:rPr>
              <a:t>什么是蜗牛</a:t>
            </a:r>
            <a:endParaRPr b="0" i="1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7" name="Rectangle 7"/>
          <p:cNvSpPr/>
          <p:nvPr/>
        </p:nvSpPr>
        <p:spPr>
          <a:xfrm>
            <a:off x="0" y="2852640"/>
            <a:ext cx="91440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2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</a:t>
            </a:r>
            <a:endParaRPr b="0" i="1" lang="en-US" sz="3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18" name="Rectangle 6"/>
          <p:cNvSpPr/>
          <p:nvPr/>
        </p:nvSpPr>
        <p:spPr>
          <a:xfrm>
            <a:off x="701640" y="3806280"/>
            <a:ext cx="7335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蜗牛是一种生活在陆地上的软体动物，属腹足纲，生活范围极广，耐严寒高温。“蜗牛”顾名思义是背着蜗壳的“牛”之义，事实上，它身体虽小，但有“角”，力大，肉味美，确也如牛一般。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8" name="Picture 25" descr=""/>
          <p:cNvPicPr/>
          <p:nvPr/>
        </p:nvPicPr>
        <p:blipFill>
          <a:blip r:embed="rId1"/>
          <a:stretch/>
        </p:blipFill>
        <p:spPr>
          <a:xfrm>
            <a:off x="550800" y="89532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 txBox="1"/>
          <p:nvPr/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     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蜗牛   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春天到了，蜗牛妈妈对孩子说了什么？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第二次妈妈对小蜗牛说了什么？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小蜗牛采回草莓没有？为什么？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小蜗牛采回蘑菇没有？为什么？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一年有几个季节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394920" y="1341360"/>
            <a:ext cx="2073600" cy="6480"/>
            <a:chOff x="394920" y="1341360"/>
            <a:chExt cx="2073600" cy="6480"/>
          </a:xfrm>
        </p:grpSpPr>
        <p:sp>
          <p:nvSpPr>
            <p:cNvPr id="621" name="直线连接符 21"/>
            <p:cNvSpPr/>
            <p:nvPr/>
          </p:nvSpPr>
          <p:spPr>
            <a:xfrm flipV="1">
              <a:off x="395280" y="1341360"/>
              <a:ext cx="207324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 rot="10800000">
              <a:off x="394920" y="1341000"/>
              <a:ext cx="207324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25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26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27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6"/>
          <p:cNvSpPr/>
          <p:nvPr/>
        </p:nvSpPr>
        <p:spPr>
          <a:xfrm>
            <a:off x="720720" y="1851120"/>
            <a:ext cx="79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这篇课文说明了要珍惜时间，时间有限制的，生命也一样，我们要在有限的生命中做出无限的好事、工作，要对得起自己，对得起祖国母亲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9" name="Picture 2" descr="F:\七彩课堂插图板式封面\排版用图标、页眉页脚\标题图（终-排版用）共29个\写法宝典.jpg"/>
          <p:cNvPicPr/>
          <p:nvPr/>
        </p:nvPicPr>
        <p:blipFill>
          <a:blip r:embed="rId1"/>
          <a:stretch/>
        </p:blipFill>
        <p:spPr>
          <a:xfrm>
            <a:off x="6516720" y="765000"/>
            <a:ext cx="2087640" cy="1460520"/>
          </a:xfrm>
          <a:prstGeom prst="rect">
            <a:avLst/>
          </a:prstGeom>
          <a:ln w="0">
            <a:noFill/>
          </a:ln>
        </p:spPr>
      </p:pic>
      <p:sp>
        <p:nvSpPr>
          <p:cNvPr id="630" name="Text Box 6"/>
          <p:cNvSpPr/>
          <p:nvPr/>
        </p:nvSpPr>
        <p:spPr>
          <a:xfrm>
            <a:off x="560520" y="20606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      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本文按春夏秋冬四季的顺序来写，条理清晰，我们也要学习这种条理清晰的说话写作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31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33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4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35" name="Picture 7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3"/>
          <p:cNvSpPr/>
          <p:nvPr/>
        </p:nvSpPr>
        <p:spPr>
          <a:xfrm>
            <a:off x="3217680" y="2838240"/>
            <a:ext cx="2730240" cy="13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盛年不重来，</a:t>
            </a:r>
            <a:r>
              <a:rPr b="0" i="1" lang="zh-CN" sz="36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1"/>
              </a:rPr>
              <a:t>一日难再晨</a:t>
            </a:r>
            <a:r>
              <a:rPr b="0" i="1" lang="zh-CN" sz="3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及时当勉励，岁月不待人。（</a:t>
            </a:r>
            <a:r>
              <a:rPr b="0" i="1" lang="zh-CN" sz="3600" spc="-1" strike="noStrike" u="sng">
                <a:solidFill>
                  <a:srgbClr val="6767ff"/>
                </a:solidFill>
                <a:uFillTx/>
                <a:latin typeface="Calibri"/>
                <a:ea typeface="宋体"/>
                <a:hlinkClick r:id="rId2"/>
              </a:rPr>
              <a:t>陶渊明</a:t>
            </a:r>
            <a:r>
              <a:rPr b="0" i="1" lang="zh-CN" sz="3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）</a:t>
            </a: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 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37" name=""/>
          <p:cNvGrpSpPr/>
          <p:nvPr/>
        </p:nvGrpSpPr>
        <p:grpSpPr>
          <a:xfrm>
            <a:off x="394920" y="1412640"/>
            <a:ext cx="2073600" cy="6120"/>
            <a:chOff x="394920" y="1412640"/>
            <a:chExt cx="2073600" cy="6120"/>
          </a:xfrm>
        </p:grpSpPr>
        <p:sp>
          <p:nvSpPr>
            <p:cNvPr id="638" name="直线连接符 21"/>
            <p:cNvSpPr/>
            <p:nvPr/>
          </p:nvSpPr>
          <p:spPr>
            <a:xfrm flipV="1">
              <a:off x="395280" y="1412640"/>
              <a:ext cx="2073240" cy="612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39" name=""/>
            <p:cNvSpPr txBox="1"/>
            <p:nvPr/>
          </p:nvSpPr>
          <p:spPr>
            <a:xfrm rot="10800000">
              <a:off x="394920" y="1412280"/>
              <a:ext cx="2073240" cy="6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40" name="Picture 7" descr=""/>
          <p:cNvPicPr/>
          <p:nvPr/>
        </p:nvPicPr>
        <p:blipFill>
          <a:blip r:embed="rId3"/>
          <a:stretch/>
        </p:blipFill>
        <p:spPr>
          <a:xfrm>
            <a:off x="395280" y="836640"/>
            <a:ext cx="201924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6"/>
          <p:cNvSpPr/>
          <p:nvPr/>
        </p:nvSpPr>
        <p:spPr>
          <a:xfrm>
            <a:off x="539640" y="2060640"/>
            <a:ext cx="83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　　这篇课文说明了要珍惜时间，时间有限制的，生命也一样，我们要在有限的生命中做出无限的好事、工作，要对得起自己，对得起祖国母亲。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642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644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pic>
        <p:nvPicPr>
          <p:cNvPr id="646" name="Picture 7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2019240" cy="533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648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20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521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522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23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524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26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uFillTx/>
                <a:latin typeface="宋体"/>
              </a:rPr>
              <a:t>认一认</a:t>
            </a:r>
            <a:endParaRPr b="0" i="1" lang="en-US" sz="2400" spc="-1" strike="noStrike" u="sng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456840" y="1600200"/>
            <a:ext cx="843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    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住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下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      玩 吧     孩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子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发芽       爬 呀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好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久   回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来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cc00cc"/>
                </a:solidFill>
                <a:latin typeface="Arial"/>
              </a:rPr>
              <a:t>已经      全   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6064200" y="2678040"/>
            <a:ext cx="934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jiǔ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29" name="Text Box 6"/>
          <p:cNvSpPr/>
          <p:nvPr/>
        </p:nvSpPr>
        <p:spPr>
          <a:xfrm>
            <a:off x="1009800" y="907920"/>
            <a:ext cx="1655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zhù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0" name="Text Box 9"/>
          <p:cNvSpPr/>
          <p:nvPr/>
        </p:nvSpPr>
        <p:spPr>
          <a:xfrm>
            <a:off x="3276720" y="903240"/>
            <a:ext cx="143820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wán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1" name="Text Box 10"/>
          <p:cNvSpPr/>
          <p:nvPr/>
        </p:nvSpPr>
        <p:spPr>
          <a:xfrm>
            <a:off x="5643720" y="919080"/>
            <a:ext cx="934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ái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2" name="Text Box 11"/>
          <p:cNvSpPr/>
          <p:nvPr/>
        </p:nvSpPr>
        <p:spPr>
          <a:xfrm>
            <a:off x="4392720" y="911160"/>
            <a:ext cx="19447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DotumChe"/>
                <a:ea typeface="DotumChe"/>
              </a:rPr>
              <a:t>ba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3" name="Text Box 13"/>
          <p:cNvSpPr/>
          <p:nvPr/>
        </p:nvSpPr>
        <p:spPr>
          <a:xfrm>
            <a:off x="539640" y="2622600"/>
            <a:ext cx="1582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fā yá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4" name="Text Box 14"/>
          <p:cNvSpPr/>
          <p:nvPr/>
        </p:nvSpPr>
        <p:spPr>
          <a:xfrm>
            <a:off x="2916360" y="2637000"/>
            <a:ext cx="93492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pá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5" name="Text Box 15"/>
          <p:cNvSpPr/>
          <p:nvPr/>
        </p:nvSpPr>
        <p:spPr>
          <a:xfrm>
            <a:off x="3851280" y="2622600"/>
            <a:ext cx="8636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ya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6" name="Text Box 16"/>
          <p:cNvSpPr/>
          <p:nvPr/>
        </p:nvSpPr>
        <p:spPr>
          <a:xfrm>
            <a:off x="900000" y="4437000"/>
            <a:ext cx="1873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yǐ jīng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7" name="Text Box 17"/>
          <p:cNvSpPr/>
          <p:nvPr/>
        </p:nvSpPr>
        <p:spPr>
          <a:xfrm>
            <a:off x="2773440" y="4437000"/>
            <a:ext cx="259056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quán biàn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7203960" y="2606760"/>
            <a:ext cx="93528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huí </a:t>
            </a:r>
            <a:endParaRPr b="0" i="1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华文楷体"/>
                <a:ea typeface="华文楷体"/>
              </a:rPr>
              <a:t>课件</a:t>
            </a:r>
            <a:r>
              <a:rPr b="0" i="1" lang="zh-CN" sz="2000" spc="-1" strike="noStrike" u="sng">
                <a:solidFill>
                  <a:srgbClr val="00b0f0"/>
                </a:solidFill>
                <a:uFillTx/>
                <a:latin typeface="Candara"/>
                <a:ea typeface="华文楷体"/>
              </a:rPr>
              <a:t>PPT</a:t>
            </a:r>
            <a:endParaRPr b="0" i="1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grpSp>
        <p:nvGrpSpPr>
          <p:cNvPr id="540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541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542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43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</p:grpSp>
      <p:pic>
        <p:nvPicPr>
          <p:cNvPr id="544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546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uFillTx/>
                <a:latin typeface="宋体"/>
              </a:rPr>
              <a:t>写一写</a:t>
            </a:r>
            <a:endParaRPr b="0" i="1" lang="en-US" sz="2400" spc="-1" strike="noStrike" u="sng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7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48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49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50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51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52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53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54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55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56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7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8" name="Text Box 16"/>
          <p:cNvSpPr/>
          <p:nvPr/>
        </p:nvSpPr>
        <p:spPr>
          <a:xfrm>
            <a:off x="2627280" y="549360"/>
            <a:ext cx="388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du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ì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59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对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0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61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62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63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64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65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66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67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68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69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0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1" name="Text Box 16"/>
          <p:cNvSpPr/>
          <p:nvPr/>
        </p:nvSpPr>
        <p:spPr>
          <a:xfrm>
            <a:off x="3276720" y="62064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mā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72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妈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74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75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76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77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78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79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80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81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82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3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qu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Calibri"/>
                <a:ea typeface="宋体"/>
              </a:rPr>
              <a:t>á</a:t>
            </a: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n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85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全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587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588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sp>
            <p:nvSpPr>
              <p:cNvPr id="589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</p:grpSp>
        <p:grpSp>
          <p:nvGrpSpPr>
            <p:cNvPr id="590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591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2400" spc="-1" strike="noStrike" u="sng">
                  <a:solidFill>
                    <a:srgbClr val="000000"/>
                  </a:solidFill>
                  <a:uFillTx/>
                  <a:latin typeface="Arial"/>
                </a:endParaRPr>
              </a:p>
            </p:txBody>
          </p:sp>
          <p:grpSp>
            <p:nvGrpSpPr>
              <p:cNvPr id="592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593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  <p:sp>
              <p:nvSpPr>
                <p:cNvPr id="594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2400" spc="-1" strike="noStrike" u="sng">
                    <a:solidFill>
                      <a:srgbClr val="000000"/>
                    </a:solidFill>
                    <a:uFillTx/>
                    <a:latin typeface="Arial"/>
                  </a:endParaRPr>
                </a:p>
              </p:txBody>
            </p:sp>
          </p:grpSp>
        </p:grpSp>
      </p:grpSp>
      <p:sp>
        <p:nvSpPr>
          <p:cNvPr id="595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6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100" spc="-1" strike="noStrike" u="sng">
                <a:solidFill>
                  <a:srgbClr val="000000"/>
                </a:solidFill>
                <a:uFillTx/>
                <a:latin typeface="Times New Roman"/>
                <a:ea typeface="宋体"/>
              </a:rPr>
              <a:t> </a:t>
            </a:r>
            <a:endParaRPr b="0" i="1" lang="en-US" sz="11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7" name="Text Box 16"/>
          <p:cNvSpPr/>
          <p:nvPr/>
        </p:nvSpPr>
        <p:spPr>
          <a:xfrm>
            <a:off x="2484360" y="765000"/>
            <a:ext cx="431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600" spc="-1" strike="noStrike" u="sng">
                <a:solidFill>
                  <a:srgbClr val="6767ff"/>
                </a:solidFill>
                <a:uFillTx/>
                <a:latin typeface="Arial"/>
                <a:ea typeface="楷体_GB2312"/>
              </a:rPr>
              <a:t>huí</a:t>
            </a:r>
            <a:endParaRPr b="0" i="1" lang="en-US" sz="9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7000" spc="-1" strike="noStrike" u="sng">
                <a:solidFill>
                  <a:srgbClr val="000000"/>
                </a:solidFill>
                <a:uFillTx/>
                <a:latin typeface="Calibri"/>
                <a:ea typeface="宋体"/>
              </a:rPr>
              <a:t>回</a:t>
            </a:r>
            <a:endParaRPr b="0" i="1" lang="en-US" sz="27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万润仪器贸易公司</cp:lastModifiedBy>
  <dcterms:modified xsi:type="dcterms:W3CDTF">2020-08-24T01:55:25Z</dcterms:modified>
  <cp:revision>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